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942-FD22-47D8-AC2F-1C0D2BED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D88-235E-4B72-9C3F-E09A7E0B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F6B-DD0E-4169-B3D2-520E3A81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039-8C7A-4733-B81E-4CF82AE3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34DF-9D4E-4134-A231-21544B2F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746-6236-49F6-A1D3-C7D6C345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6B9-4E6F-4A3A-B98B-B30626A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8A13-D02C-4EA3-8E24-5AB5C88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2E1C-CFE3-4D2C-BE92-4DB7CF0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DFD8-C988-49FA-8C17-C4D180A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CE82-654C-427C-905F-9DF4D41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918-0B35-463D-A61C-E7391CD3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878A-DFC6-43EF-BBB5-7089A8B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ED35-0210-47F6-96B5-458D86EA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8035-56F0-4BF6-8F31-DA029CC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7200-85EB-4F9B-98D8-D5B3F33A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479D-5A88-45C6-A4BD-DC1BCC8D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78D6-827C-45FC-BC90-4DCAD25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A832-3581-4208-A0A4-CCFE000A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1909-A43B-4297-A407-F053F78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3320-C939-461C-BFD1-689E33A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AED7-CBFE-4C31-9B9F-23F717C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84D-BB21-4A5D-B56C-173DC827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9475-3C04-4ADF-819E-2DDA882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EC60-CB09-4C29-85E4-BB351CBB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F709-17A2-4FC0-9F81-310F1A3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E954-A25F-42AA-9EF4-BAD8DDF2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22C2-D637-4BAF-BC65-0789AA4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EB44-4B38-4523-8968-09D834EB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92CD-4E73-4A96-83CE-42EB9766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152D-4A76-4F57-9E26-0FF2E7FF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8B5D-9718-4378-8C2B-A4615E02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7DF2-F94A-430C-BDEA-EB320F3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8FF-6C4D-41DC-9736-8661968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CDF2-545E-4EAC-BB30-D5093C8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CA81-738E-4A10-89B2-1979FC0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8F31-FA65-443D-AA79-56FC8A9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8163-5D07-48F6-8D36-0480432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5E38-64B0-491B-9D96-2C7C06F9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2C4D-4D96-4F64-83CA-C0330DF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328E-9BF3-4A73-9FCF-BF011BAF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9030-2C34-4573-AD36-83681D0B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4213-F011-4267-824A-F32E47F8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F42-000D-4DAB-8E29-2A62E476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217-2351-4111-AA47-76B9A28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C5D-FFFF-4C1D-B71D-085DA9C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C31-4210-40F6-B248-3FD0BFF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A5D-B6FF-461E-88C8-3FABD01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8F3-64D0-4D64-A687-0D3317505E5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0F79-3EAD-4E47-B245-993724CDF3F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A89-C671-46CC-BBBE-0D470E313FF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49B5-8D9B-49B5-B149-85F36585DF9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sanna.21428s12.edusite.ru/p4aa1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520" y="4500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onstantia"/>
              </a:rPr>
              <a:t>Исследовательская группа: 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onstantia"/>
              </a:rPr>
              <a:t>Иванов И.И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onstantia"/>
              </a:rPr>
              <a:t>Петров П.П.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Почему небо голубое. Почему Солнце желто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0040" y="221472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и вопросы, такие естественные, возникали перед человеком с глубокой древности. Однако чтобы получить правильное объяснение этих явлений, потребовались усилия выдающихся ученых средних веков и более позднего времени, вплоть до конца XIX 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4" descr="d6025f4a8a94.jpg"/>
          <p:cNvPicPr/>
          <p:nvPr/>
        </p:nvPicPr>
        <p:blipFill>
          <a:blip r:embed="rId1"/>
          <a:stretch/>
        </p:blipFill>
        <p:spPr>
          <a:xfrm>
            <a:off x="4359240" y="4334040"/>
            <a:ext cx="4199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Методы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6d"/>
                </a:solidFill>
                <a:latin typeface="Comic Sans MS"/>
              </a:rPr>
              <a:t>Анализ данных сети </a:t>
            </a:r>
            <a:r>
              <a:rPr b="1" lang="en-US" sz="2800" spc="-1" strike="noStrike">
                <a:solidFill>
                  <a:srgbClr val="004e6d"/>
                </a:solidFill>
                <a:latin typeface="Comic Sans M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6d"/>
                </a:solidFill>
                <a:latin typeface="Comic Sans MS"/>
              </a:rPr>
              <a:t>Анализ литерат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HJ163_350A_enl.jpg"/>
          <p:cNvPicPr/>
          <p:nvPr/>
        </p:nvPicPr>
        <p:blipFill>
          <a:blip r:embed="rId1"/>
          <a:stretch/>
        </p:blipFill>
        <p:spPr>
          <a:xfrm>
            <a:off x="4883040" y="2273400"/>
            <a:ext cx="3900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Какие гипотезы существова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7856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аких только гипотез не выдвигалось в разное время для объяснения цвета неб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8684e"/>
                </a:solidFill>
                <a:uFillTx/>
                <a:latin typeface="Bookman Old Style"/>
              </a:rPr>
              <a:t>1 гипотез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аблюдая, как дым на фоне темного камина приобретает сине­ватый цвет, Леонардо да Винчи писал: „...светлота поверх темноты стано­вится синей, тем более прекрасной, чем превосходными будут светлое и тем­ное". Примерно такой же точки зрения придерживался Гёте, который был не только всемирно известным поэтом, но и крупнейшим ученым естество­испытателем своего времени. Однако такое объяснение цвета неба оказалось несостоятельным, поскольку, как стало очевидно позднее, смешение черного И белого может дать только серые тона, а не цветные. Синий цвет дыма из камина обусловливается совершенно другим процесс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Какие гипотезы существова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8684e"/>
                </a:solidFill>
                <a:uFillTx/>
                <a:latin typeface="Bookman Old Style"/>
              </a:rPr>
              <a:t>2 гипоте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сле открытия интерференции, в частности в тонких пленках, Ньютон пытался применить интерференцию к объяснению цвета неба. Для этого ему пришлось допустить, что капли воды имеют форму тонкостенных пузы­рей, наподобие мыльных. Но так как капельки воды, содержащиеся в атмосфере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действительности представляют собой сферы, то и эта гипотеза вскоре „лопнула", как мыльный пузыр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04617b"/>
                </a:solidFill>
                <a:uFillTx/>
                <a:latin typeface="Calibri"/>
              </a:rPr>
              <a:t>Какие гипотезы существова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8684e"/>
                </a:solidFill>
                <a:uFillTx/>
                <a:latin typeface="Bookman Old Style"/>
              </a:rPr>
              <a:t>3 гипоте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ченые XVIII в. Мариотт, Бугер, Эйлер думали, что голубой цвет неба объясняется собственным цветом составных частей воздуха. Такое объяс­нение даже получило некоторое подтверждение позднее, уже в XIX в., когда установили, что жидкий кислород имеет голубой цвет, а жидкий озон — синий. Ближе всех к правильному объяснению цвета неба подошел О. Б. Соссюр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н считал, что если бы воздух был абсолютно чистым, то небо было бы черным, но воздух содержит примеси, которые отражают преимущественно   голубой   цвет   (в   частности — водяной   пар   и   капельки   воды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Итоги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2" descr=""/>
          <p:cNvPicPr/>
          <p:nvPr/>
        </p:nvPicPr>
        <p:blipFill>
          <a:blip r:embed="rId2"/>
          <a:stretch/>
        </p:blipFill>
        <p:spPr>
          <a:xfrm>
            <a:off x="365040" y="2077920"/>
            <a:ext cx="83883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Итоги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2" descr=""/>
          <p:cNvPicPr/>
          <p:nvPr/>
        </p:nvPicPr>
        <p:blipFill>
          <a:blip r:embed="rId2"/>
          <a:stretch/>
        </p:blipFill>
        <p:spPr>
          <a:xfrm>
            <a:off x="390600" y="1695600"/>
            <a:ext cx="83754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ет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В. Зверева.В мире солнечного света.Л.,Гидрометеоиздат,19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susanna.21428s12.edusite.ru/p4aa1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Рисунок 3" descr="294575.jpg"/>
          <p:cNvPicPr/>
          <p:nvPr/>
        </p:nvPicPr>
        <p:blipFill>
          <a:blip r:embed="rId2"/>
          <a:stretch/>
        </p:blipFill>
        <p:spPr>
          <a:xfrm>
            <a:off x="1974960" y="3425760"/>
            <a:ext cx="46450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80</cp:lastModifiedBy>
  <dcterms:modified xsi:type="dcterms:W3CDTF">2010-05-22T05:43:23Z</dcterms:modified>
  <cp:revision>3</cp:revision>
  <dc:subject/>
  <dc:title>Почему небо голубое?</dc:title>
</cp:coreProperties>
</file>